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4A0-E22E-4BD0-B2FE-77A784B4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65A-4F48-49FB-9674-F4C09B94F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7608-8E02-49C7-8D65-4D970833F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5DC-0F1F-4212-A205-371A9BA075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6BB-0592-462A-B96A-9C43FADB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B01-A719-45A2-BB79-0054D9E4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4A5-7B19-4539-90D1-C08529E1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D36-2D12-4562-B2C0-FCE12AE1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E20-E5CE-4F1D-9D8D-A4AADBCB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28F-2C3E-4F1B-892C-D6408C8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4FC-2820-4E1B-B5ED-CFAA054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A142-3272-4251-906A-15E6E0F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D023-3065-4792-9102-DA2E3436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39E-FB1E-44F6-96DD-8BF468E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4C80-0AC7-46AA-848D-C7208D6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EBF-C5ED-445D-ADD4-E25F54E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6E02-45DD-49E3-ACCF-5E7D6C1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61CA-BBBC-4726-B38F-57AE91D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77C9-82DA-43BE-9F75-EE17D87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BC7F-E880-48CB-8B0F-E524CA32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38F-8E67-4341-ABBC-67D06C17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EF0-302F-479A-8167-ABE516B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012-CA42-4DC6-A6B9-C381848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C24-5924-4990-8B20-E616098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203-0DAB-4962-A083-7720B0EE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C8E-6F96-4E0D-8ED0-F266EE6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25D-D035-481A-823E-B5AFD8A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DAE-C885-42BD-BA50-0F8BF57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038-2516-46E2-99A8-66BC1BFD28F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07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72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B5E-CEA6-4AD1-981D-F36E7F1FCEB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“they” up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HootBook"/>
          <p:cNvPicPr/>
          <p:nvPr/>
        </p:nvPicPr>
        <p:blipFill>
          <a:blip r:embed="rId1"/>
          <a:stretch/>
        </p:blipFill>
        <p:spPr>
          <a:xfrm rot="21153000">
            <a:off x="4800240" y="2971800"/>
            <a:ext cx="2076480" cy="3205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ootAudioBook"/>
          <p:cNvPicPr/>
          <p:nvPr/>
        </p:nvPicPr>
        <p:blipFill>
          <a:blip r:embed="rId2"/>
          <a:stretch/>
        </p:blipFill>
        <p:spPr>
          <a:xfrm rot="700800">
            <a:off x="6603480" y="3526920"/>
            <a:ext cx="1949760" cy="22100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7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videogame"/>
          <p:cNvPicPr/>
          <p:nvPr/>
        </p:nvPicPr>
        <p:blipFill>
          <a:blip r:embed="rId1"/>
          <a:stretch/>
        </p:blipFill>
        <p:spPr>
          <a:xfrm>
            <a:off x="5334120" y="2895480"/>
            <a:ext cx="2509560" cy="2509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914400" y="2057400"/>
            <a:ext cx="3200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ObamaAd"/>
          <p:cNvPicPr/>
          <p:nvPr/>
        </p:nvPicPr>
        <p:blipFill>
          <a:blip r:embed="rId1"/>
          <a:stretch/>
        </p:blipFill>
        <p:spPr>
          <a:xfrm>
            <a:off x="4800600" y="2209680"/>
            <a:ext cx="2955960" cy="35816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icture 4"/>
          <p:cNvPicPr/>
          <p:nvPr/>
        </p:nvPicPr>
        <p:blipFill>
          <a:blip r:embed="rId1"/>
          <a:stretch/>
        </p:blipFill>
        <p:spPr>
          <a:xfrm>
            <a:off x="3048120" y="1905120"/>
            <a:ext cx="5790960" cy="40003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6"/>
          <p:cNvSpPr/>
          <p:nvPr/>
        </p:nvSpPr>
        <p:spPr>
          <a:xfrm>
            <a:off x="152280" y="2057400"/>
            <a:ext cx="2895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SI"/>
          <p:cNvPicPr/>
          <p:nvPr/>
        </p:nvPicPr>
        <p:blipFill>
          <a:blip r:embed="rId1"/>
          <a:stretch/>
        </p:blipFill>
        <p:spPr>
          <a:xfrm>
            <a:off x="5486400" y="2057400"/>
            <a:ext cx="269568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914400" y="190512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Mess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76212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Osaka"/>
              </a:rPr>
              <a:t>Don’t engage t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Osaka"/>
              </a:rPr>
              <a:t>without your brai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media eng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523880" y="2514600"/>
            <a:ext cx="6629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, videos, DVD and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: books, magazines, newspaper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or Interne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 or onlin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or listening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sons for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362320"/>
            <a:ext cx="365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- persu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- in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- enter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26175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6743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e Media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380880" y="20574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edia messages are constru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essages are constructed using a “language” with its own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experience the same media message differ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have embedded values and points of 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media messages are organized to gain profit and/or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1981080" y="63244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er for Media Litera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mediali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2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Media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28600" y="1905120"/>
            <a:ext cx="8686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4495680" y="63244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er for Media Litera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mediali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Picture 1"/>
          <p:cNvPicPr/>
          <p:nvPr/>
        </p:nvPicPr>
        <p:blipFill>
          <a:blip r:embed="rId1"/>
          <a:stretch/>
        </p:blipFill>
        <p:spPr>
          <a:xfrm>
            <a:off x="3581280" y="1905120"/>
            <a:ext cx="4581720" cy="3182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Picture 2"/>
          <p:cNvPicPr/>
          <p:nvPr/>
        </p:nvPicPr>
        <p:blipFill>
          <a:blip r:embed="rId2"/>
          <a:stretch/>
        </p:blipFill>
        <p:spPr>
          <a:xfrm>
            <a:off x="5562720" y="5486400"/>
            <a:ext cx="1120680" cy="331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9"/>
          <p:cNvSpPr/>
          <p:nvPr/>
        </p:nvSpPr>
        <p:spPr>
          <a:xfrm>
            <a:off x="5335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EverydayMath"/>
          <p:cNvPicPr/>
          <p:nvPr/>
        </p:nvPicPr>
        <p:blipFill>
          <a:blip r:embed="rId1"/>
          <a:stretch/>
        </p:blipFill>
        <p:spPr>
          <a:xfrm>
            <a:off x="3733920" y="2895480"/>
            <a:ext cx="4927320" cy="26672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"/>
          <p:cNvSpPr/>
          <p:nvPr/>
        </p:nvSpPr>
        <p:spPr>
          <a:xfrm>
            <a:off x="5335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09480" y="2057400"/>
            <a:ext cx="2895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2166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3657600" cy="2414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13:28Z</dcterms:created>
  <dc:creator>Roseville Schools</dc:creator>
  <dc:description/>
  <dc:language>en-US</dc:language>
  <cp:lastModifiedBy>Marsha Filipiak</cp:lastModifiedBy>
  <dcterms:modified xsi:type="dcterms:W3CDTF">2009-08-23T04:06:24Z</dcterms:modified>
  <cp:revision>22</cp:revision>
  <dc:subject/>
  <dc:title>Types of Media</dc:title>
</cp:coreProperties>
</file>